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B25-29A8-4187-9274-7D9C7433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D5A-091F-4197-927C-3C15BBDA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570-034A-47D7-9C5B-0EF96517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2EF-C1BB-4B50-A3B6-23A0D6DA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5EA-738A-4A10-9601-5BCC287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799-9C55-4941-A035-940CBF55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98C-99BA-4F9C-9A6F-408AD6A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346-08A8-4872-B960-2DA91F37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A79-B62F-40A0-BB19-CF9FF240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73C-69DD-4E24-A9B1-53338A7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084-0B6B-4130-8346-5509CB9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6E3-D741-425C-B359-5E311AE2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18CF-268C-411A-BE47-26C51BFC9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"/>
          <p:cNvSpPr/>
          <p:nvPr/>
        </p:nvSpPr>
        <p:spPr>
          <a:xfrm>
            <a:off x="2438280" y="6095880"/>
            <a:ext cx="4496040" cy="2286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emic Content Standar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2590920" y="5791320"/>
            <a:ext cx="4267080" cy="2286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Standards &amp; Supporting Standar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685800" y="5334120"/>
            <a:ext cx="769608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e, Sequence, and Pacing of Curricular Units for Each Content Area, Grade Level, and Cou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1905120" y="4724280"/>
            <a:ext cx="5638680" cy="3812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-Based Common Formative (Pre-) Assessment and Data Teams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8"/>
          <p:cNvSpPr/>
          <p:nvPr/>
        </p:nvSpPr>
        <p:spPr>
          <a:xfrm>
            <a:off x="1447920" y="3886200"/>
            <a:ext cx="1981080" cy="609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 Instruction, Differentiation, and Intervention Strateg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9"/>
          <p:cNvSpPr/>
          <p:nvPr/>
        </p:nvSpPr>
        <p:spPr>
          <a:xfrm>
            <a:off x="228600" y="32004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l Progress-Monitoring Chec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10"/>
          <p:cNvSpPr/>
          <p:nvPr/>
        </p:nvSpPr>
        <p:spPr>
          <a:xfrm>
            <a:off x="990720" y="2438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-Uni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Targeted Strateg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1523880" y="1447920"/>
            <a:ext cx="2819520" cy="533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-of-Course/End-of-Grade Summative Assess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12"/>
          <p:cNvSpPr/>
          <p:nvPr/>
        </p:nvSpPr>
        <p:spPr>
          <a:xfrm>
            <a:off x="1905120" y="457200"/>
            <a:ext cx="571500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State or Provincial Assess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3"/>
          <p:cNvSpPr/>
          <p:nvPr/>
        </p:nvSpPr>
        <p:spPr>
          <a:xfrm>
            <a:off x="5105520" y="1447920"/>
            <a:ext cx="3504960" cy="533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or School Division Benchmark Assessments (Formative or Summativ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4"/>
          <p:cNvSpPr/>
          <p:nvPr/>
        </p:nvSpPr>
        <p:spPr>
          <a:xfrm>
            <a:off x="5562720" y="2362320"/>
            <a:ext cx="2971800" cy="3045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l Progress-Monitoring Chec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5"/>
          <p:cNvSpPr/>
          <p:nvPr/>
        </p:nvSpPr>
        <p:spPr>
          <a:xfrm>
            <a:off x="5867280" y="312408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-Based Common Formative (Post) Assessment and Data Teams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6"/>
          <p:cNvSpPr/>
          <p:nvPr/>
        </p:nvSpPr>
        <p:spPr>
          <a:xfrm>
            <a:off x="5562720" y="39625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richment, Remediation, Intervention Prior to Next Curricular Un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20"/>
          <p:cNvSpPr/>
          <p:nvPr/>
        </p:nvSpPr>
        <p:spPr>
          <a:xfrm>
            <a:off x="2133720" y="6019920"/>
            <a:ext cx="228600" cy="444240"/>
          </a:xfrm>
          <a:prstGeom prst="upArrow">
            <a:avLst>
              <a:gd name="adj1" fmla="val 50000"/>
              <a:gd name="adj2" fmla="val 499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Up Arrow 21"/>
          <p:cNvSpPr/>
          <p:nvPr/>
        </p:nvSpPr>
        <p:spPr>
          <a:xfrm>
            <a:off x="1600200" y="45720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Up Arrow 22"/>
          <p:cNvSpPr/>
          <p:nvPr/>
        </p:nvSpPr>
        <p:spPr>
          <a:xfrm>
            <a:off x="2971800" y="9144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Up Arrow 23"/>
          <p:cNvSpPr/>
          <p:nvPr/>
        </p:nvSpPr>
        <p:spPr>
          <a:xfrm>
            <a:off x="6553080" y="9144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Up Arrow 24"/>
          <p:cNvSpPr/>
          <p:nvPr/>
        </p:nvSpPr>
        <p:spPr>
          <a:xfrm>
            <a:off x="2743200" y="2057400"/>
            <a:ext cx="228600" cy="291960"/>
          </a:xfrm>
          <a:prstGeom prst="upArrow">
            <a:avLst>
              <a:gd name="adj1" fmla="val 50000"/>
              <a:gd name="adj2" fmla="val 498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Up Arrow 25"/>
          <p:cNvSpPr/>
          <p:nvPr/>
        </p:nvSpPr>
        <p:spPr>
          <a:xfrm>
            <a:off x="6705720" y="2057400"/>
            <a:ext cx="152280" cy="291960"/>
          </a:xfrm>
          <a:prstGeom prst="upArrow">
            <a:avLst>
              <a:gd name="adj1" fmla="val 50000"/>
              <a:gd name="adj2" fmla="val 499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3505320" y="26668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ar Unit of Study with Engaging Learning Experiences Based on “Unwrapped” Priority Standards, Big Ideas, and Essential Ques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rved Down Arrow 38"/>
          <p:cNvSpPr/>
          <p:nvPr/>
        </p:nvSpPr>
        <p:spPr>
          <a:xfrm>
            <a:off x="3581280" y="2133720"/>
            <a:ext cx="1905120" cy="380880"/>
          </a:xfrm>
          <a:custGeom>
            <a:avLst/>
            <a:gdLst>
              <a:gd name="textAreaLeft" fmla="*/ 440640 w 1905120"/>
              <a:gd name="textAreaRight" fmla="*/ 1416960 w 19051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urved Up Arrow 39"/>
          <p:cNvSpPr/>
          <p:nvPr/>
        </p:nvSpPr>
        <p:spPr>
          <a:xfrm>
            <a:off x="3581280" y="4191120"/>
            <a:ext cx="1981440" cy="380880"/>
          </a:xfrm>
          <a:custGeom>
            <a:avLst/>
            <a:gdLst>
              <a:gd name="textAreaLeft" fmla="*/ 459360 w 1981440"/>
              <a:gd name="textAreaRight" fmla="*/ 1474200 w 198144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21" hR="21600" stAng="10800000" swAng="-5400000"/>
                <a:lnTo>
                  <a:pt x="11060" y="21600"/>
                </a:lnTo>
                <a:arcTo wR="10021" hR="21600" stAng="5400000" swAng="-3654136"/>
                <a:lnTo>
                  <a:pt x="21282" y="5400"/>
                </a:lnTo>
                <a:lnTo>
                  <a:pt x="20562" y="0"/>
                </a:lnTo>
                <a:lnTo>
                  <a:pt x="19205" y="5400"/>
                </a:lnTo>
                <a:lnTo>
                  <a:pt x="19724" y="5400"/>
                </a:lnTo>
                <a:arcTo wR="10021" hR="21600" stAng="1745864" swAng="3571360"/>
                <a:lnTo>
                  <a:pt x="10541" y="21571"/>
                </a:lnTo>
                <a:arcTo wR="10021" hR="21600" stAng="5482776" swAng="5317224"/>
                <a:close/>
              </a:path>
              <a:path fill="darkenLess" w="21600" h="21600">
                <a:moveTo>
                  <a:pt x="0" y="0"/>
                </a:moveTo>
                <a:arcTo wR="10021" hR="21600" stAng="10800000" swAng="-5400000"/>
                <a:lnTo>
                  <a:pt x="11060" y="21600"/>
                </a:lnTo>
                <a:arcTo wR="10021" hR="21600" stAng="5400000" swAng="82776"/>
                <a:lnTo>
                  <a:pt x="10541" y="21571"/>
                </a:lnTo>
                <a:arcTo wR="10021" hR="21600" stAng="5482776" swAng="531722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dapted from Planning for Rigorous Curriculum Design, 2010 - Ainsw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1:48:49Z</dcterms:created>
  <dc:creator>Eagle Schools</dc:creator>
  <dc:description/>
  <dc:language>en-US</dc:language>
  <cp:lastModifiedBy>Eagle Schools</cp:lastModifiedBy>
  <dcterms:modified xsi:type="dcterms:W3CDTF">2010-11-16T02:41:25Z</dcterms:modified>
  <cp:revision>6</cp:revision>
  <dc:subject/>
  <dc:title>Slide 1</dc:title>
</cp:coreProperties>
</file>